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4.png" ContentType="image/png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6.wmf" ContentType="image/x-wmf"/>
  <Override PartName="/ppt/media/image11.png" ContentType="image/png"/>
  <Override PartName="/ppt/media/image27.png" ContentType="image/png"/>
  <Override PartName="/ppt/media/image30.wmf" ContentType="image/x-wmf"/>
  <Override PartName="/ppt/media/image29.wmf" ContentType="image/x-wmf"/>
  <Override PartName="/ppt/media/image3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28C-3C3C-478C-940E-52ECA72A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DF7-EF3D-433C-8D78-6AB02B2F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1F1D3-F0A9-4BBC-BB6C-94077C71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C82F8-DD8D-4856-A6A3-DE08B616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A298F-9718-4E72-809C-C66F9879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3555A-598E-4ECC-BA16-DF25049E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D50D2-7E27-4D91-A9AE-78595DC5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DD2DD-9F22-4AD7-A9AC-998F4045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E8264-CC44-4361-B9AE-8E145992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8FAD9-0DA2-474A-BA24-33680096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6FA2C-9EC3-4358-9680-6C1233B1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82F-47E9-4A3C-A16E-09EF8EF8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393-69FC-4067-91A7-4DA59F52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69CA-C987-439C-9A99-3CE2CBEC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5454-D531-4EF7-BAF4-A763DC1E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6870-B72F-4E95-8605-E07812A8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D731-425B-4772-B093-EDE81D7E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020B-125C-4E9C-ADEF-4089E8D9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DF42-BFB0-4991-9188-692FD0C0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54FC-B1A7-48AB-9FB2-95D96D37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B43-A626-444F-9D98-DEEFA0BD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3DC9-0CEB-490D-A189-9AF817DF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6072-3899-4316-B9D2-44890C4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B0B1-BE15-4CB8-B194-219E3EAA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8F84-ED53-487F-939A-AE70B10B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CFC5-22FE-4D5B-8166-628F5919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2F1B-55CB-4B9B-B034-9FA07821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9C4AD-C7CC-41CE-9441-8BD7F6C3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3919-127B-4889-B91E-821247AE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B1C3-4550-47B9-AFE0-AB6A5584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804C-BAA8-4A5E-AC59-9D9B53CE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E02-CA6A-4C4D-B9DC-1A83501C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2D1C-EBDA-418B-83BC-38FA665D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242B-E04A-40EC-B5A4-C86AB86B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8619-0129-4B0E-90B0-1C6E51E0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D88E-A88B-4385-859E-D3360AF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5938-93E0-4DB9-AD41-025A49C9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1E9E-7836-4919-AF0A-DC107B73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7613-E998-421E-848A-5A5E6551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383E2-F63A-48E2-B209-5C246C21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8420-C9A7-47C9-BEFA-A309E008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C222-9D87-42A7-96E5-0A9928F9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5BB-9EE1-45AA-ABE1-B7247780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FC68-EBB8-4442-90EA-931321B3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5A159-28C2-49C2-841C-CE25C74F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87E9B-C297-46BC-AD95-DF503A9E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DE05C-C855-4B4B-B902-30270955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48986-6CD3-4A07-AC56-FAF66232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FC81-C60F-4CAB-A3F4-0B96E080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E98A-D88A-4592-8C21-797871BD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644E-3D60-48E8-8C56-C7531385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8607B-BF3C-4594-A7C5-FDB45C0B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E75E0-B2D0-40FB-ABFD-CF85692C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8B8-2F6F-4C50-945A-0F1873C9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DB229-9255-4DF3-AD02-A4BEBE12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D7BE-F088-48A1-98F4-B9086453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92497-0BC6-4A4D-8E1A-749501F2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BD24-710D-436E-ADD4-6A24BB1B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41484-7032-41AA-8DAC-7F3734D4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4078B-938F-4AD9-9625-8F12BAA2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CAD7-817C-4FEA-BC29-CFB46E46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2F7D6-36FD-480D-960C-F48E68A8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9F8C9-D632-436A-9B20-9E640C0F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5C4C1-53F8-4B66-A633-53F4F0F1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896-85F9-47F9-A8FE-50350657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955A-9A97-4C5C-992E-1B3D73EA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FFD08-8F63-4DC0-AC50-EB42F299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EAA87-E462-43DE-9A6F-422649A9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6E0C0-6499-4CAC-8B40-9B95C221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E6FA-DC48-45BE-88C3-37078B86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5F33-ECFB-4D2F-8985-981EBB9E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0C323-44FF-4749-80B6-63D2D61D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D2F8-550D-479D-A0E4-CEA8EB00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19F1E-04B7-47AD-9548-8F99FFE3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6D2BD-73B7-4639-9823-25000DA7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7CF-53BE-4D16-A23A-B99D0267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7EDC5-8BE0-4AE8-B009-0B6FBA1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AF7DA-A68D-4463-9FA0-250FD012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08FE9-2DF5-4DC3-8109-0550A0F3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3F419-9214-4639-80C7-E67BC428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84A8A-04AC-4244-B715-C8D14A0B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C8AC-952F-47D2-A855-EBE0C388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0A425-3209-42EB-AFF3-CDB655B9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EEFD2-8130-4BD6-BF79-95160CF4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E5BCC-FA8B-45A7-97CA-7A268DE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24717-D01E-425F-8568-B2B6EB96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D17-E312-4303-826A-9D3492A6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4AFC0-63DF-4A20-B9A6-85CA29F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A259-866B-404D-B36A-5FC43A9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723DC-60C4-45E1-B7A5-626BCF0D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756E8-FEB9-4467-86C7-EBF1C5D2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7DA72-04D3-4286-AFD3-4C170D01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DD8E-7371-42F0-AFBC-51A00FE3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ABB92-9A37-4CC4-966E-32ABAD9C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9590-4285-41D0-80B4-9AAF07E0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53CE0-75ED-473A-ACD4-8E74A183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52FEC-41A5-4F4B-8028-825CA1BB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877-1359-4A8A-86F7-E7C709C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2D2BD-26FF-4465-A4C8-79C93B13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B86D9-AB27-45AF-BE8E-98ED6B27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D007E-A6D7-44C5-89C9-53BAB52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37256-B161-44CE-A9F4-66C72AF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7EF2E-8547-4949-B17D-A6BDE5C8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CBD35-F5A1-4FE9-8196-313B4D21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ACED4-1CE1-4A27-9021-2B5B6231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2AE07-D9DF-4310-95BE-0EFFB417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FA22A-ED4F-4F2F-8165-C9CD2322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283DE-9449-4C3F-BD21-BBF9222A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6C86-A75D-4FCC-A2E5-4B1C2C2B4AF5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DF24-B669-466A-8462-29EDD539B061}" type="slidenum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6BB9-484F-4080-9BBD-9EF6C1105CD4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143560" y="6305040"/>
            <a:ext cx="927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1DB7-2FB8-4414-B3FB-31DCF8E6D13E}" type="slidenum">
              <a:rPr b="0" lang="es-MX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E115-B117-403B-9826-B66A71893226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143560" y="6305040"/>
            <a:ext cx="927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C25B-87ED-481D-AB2C-84F05DA18C1F}" type="slidenum">
              <a:rPr b="0" lang="es-MX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Oval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47FA-5D2D-4712-B7C1-CC9818AA4ACE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143560" y="6305040"/>
            <a:ext cx="927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DB60-893C-430D-A7E4-C2CFC3FB0470}" type="slidenum">
              <a:rPr b="0" lang="es-MX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54D9-DC2E-48E6-967B-F5CE4B7FFBCF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6FAE-F8C7-4B52-B821-2E378351199A}" type="slidenum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38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39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4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8563-A4E8-44D6-A6AE-D331468C7A3B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43560" y="6305040"/>
            <a:ext cx="927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BB43-3B8E-479D-945A-CD460E81FDCA}" type="slidenum">
              <a:rPr b="0" lang="es-MX" sz="24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90DE-FF2D-4E5B-B6D8-0D33BCFC50B1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04FC-4FD2-456F-9F4D-0CEF4A98BBC8}" type="slidenum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F36B-4D79-487A-9EAA-43C5942ACA63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49DC-9775-4EF4-99EF-F324D6F5723C}" type="slidenum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Rectangle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69" name="Rectangle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71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A9EE-1D9F-401A-A582-802A8FB11737}" type="datetime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421B-6D2C-4955-8081-47B015C515EA}" type="slidenum">
              <a:rPr b="0" lang="es-MX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572314"/>
                </a:solidFill>
                <a:latin typeface="Gill Sans MT"/>
              </a:rPr>
              <a:t>MODELOS DE INVENTARIO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000" spc="-1" strike="noStrike">
              <a:solidFill>
                <a:srgbClr val="320e04"/>
              </a:solidFill>
              <a:latin typeface="Gill Sans MT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C96-6961-4F11-B968-B3C2B81B827E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1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Pedidos repetitivos – reabastecimiento instantáne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Balance en costos para la cantidad a pedir en un lote económico de pedido (EOQ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E56D-8017-465C-9342-AE3ABC9ED788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2" name="Picture 62" descr=""/>
          <p:cNvPicPr/>
          <p:nvPr/>
        </p:nvPicPr>
        <p:blipFill>
          <a:blip r:embed="rId1"/>
          <a:stretch/>
        </p:blipFill>
        <p:spPr>
          <a:xfrm>
            <a:off x="2143080" y="2928960"/>
            <a:ext cx="4429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reabastecimiento instantáne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F532-9C55-4019-95B9-23D880AFDA7D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6" name="Picture 68" descr=""/>
          <p:cNvPicPr/>
          <p:nvPr/>
        </p:nvPicPr>
        <p:blipFill>
          <a:blip r:embed="rId1"/>
          <a:stretch/>
        </p:blipFill>
        <p:spPr>
          <a:xfrm>
            <a:off x="1643040" y="2143080"/>
            <a:ext cx="7230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reabastecimiento instantáne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TC  = (D/Q)*S   + ICQ/2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Costo total  = Costo de adquisición + costo de manejo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Donde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Q = Cantidad del pedido en unidad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D = Demanda anual de artículo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S = Costos de adquisición por pedid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C = Valor del artículo de cada unida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ill Sans MT"/>
              </a:rPr>
              <a:t>I = Costo de manejo de artículos como porcentaje del valor del artícul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F042-62EB-4080-AA9C-BE6A62C00BE4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Balance en cost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AA98-A6A4-471C-A38C-9F206C3CFF63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" name="Picture 19" descr="http://www.endurancetrading.com/wp-content/uploads/2008/09/eoq3.jpg"/>
          <p:cNvPicPr/>
          <p:nvPr/>
        </p:nvPicPr>
        <p:blipFill>
          <a:blip r:embed="rId1"/>
          <a:stretch/>
        </p:blipFill>
        <p:spPr>
          <a:xfrm>
            <a:off x="1285920" y="1500120"/>
            <a:ext cx="71658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reabastecimiento instantáne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B503-065F-4184-8D09-D79B5A6AF537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1214280" y="1714680"/>
            <a:ext cx="7929720" cy="4025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5"/>
          <p:cNvSpPr/>
          <p:nvPr/>
        </p:nvSpPr>
        <p:spPr>
          <a:xfrm>
            <a:off x="1385280" y="6000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p. 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2"/>
          <a:stretch/>
        </p:blipFill>
        <p:spPr>
          <a:xfrm>
            <a:off x="2928960" y="5214960"/>
            <a:ext cx="5743440" cy="92880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Pedidos repetitivos – reabastecimiento instantáne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unto de reor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PRO = d x 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d = Tasa de demanda en unidades de tiemp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 MT"/>
              </a:rPr>
              <a:t>TE = Tiempo de entrega promedio en unidades de tiemp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. 1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EDDF-B828-4399-BAC1-5222AC6E204D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2714760" y="5429160"/>
            <a:ext cx="5734080" cy="1071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ó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7483320" cy="4500360"/>
          </a:xfrm>
          <a:prstGeom prst="rect">
            <a:avLst/>
          </a:prstGeom>
          <a:ln w="0">
            <a:noFill/>
          </a:ln>
        </p:spPr>
      </p:pic>
      <p:sp>
        <p:nvSpPr>
          <p:cNvPr id="474" name="Slide Number Placeholder 4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490A-55B9-4B57-A88E-F089C55A225A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o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516720" cy="4429080"/>
          </a:xfrm>
          <a:prstGeom prst="rect">
            <a:avLst/>
          </a:prstGeom>
          <a:ln w="0">
            <a:noFill/>
          </a:ln>
        </p:spPr>
      </p:pic>
      <p:sp>
        <p:nvSpPr>
          <p:cNvPr id="477" name="Slide Number Placeholder 4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29B9-CA5E-476E-BAE1-EF256AD3580F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ó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1500120" y="1857240"/>
            <a:ext cx="6899400" cy="4500720"/>
          </a:xfrm>
          <a:prstGeom prst="rect">
            <a:avLst/>
          </a:prstGeom>
          <a:ln w="0">
            <a:noFill/>
          </a:ln>
        </p:spPr>
      </p:pic>
      <p:sp>
        <p:nvSpPr>
          <p:cNvPr id="480" name="Slide Number Placeholder 4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6841-32B1-4BA7-BEAF-BBCF24B30216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ó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1571760" y="1643040"/>
            <a:ext cx="7143480" cy="4357800"/>
          </a:xfrm>
          <a:prstGeom prst="rect">
            <a:avLst/>
          </a:prstGeom>
          <a:ln w="0">
            <a:noFill/>
          </a:ln>
        </p:spPr>
      </p:pic>
      <p:sp>
        <p:nvSpPr>
          <p:cNvPr id="483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84BE-B1B1-4205-9DCA-F14D0B3D0FF4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Direcciones youtub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trol de inventarios en Exc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estión de inventar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ogística Chile telefóni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estión de almacenes - sto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BD5F-D2AC-459C-8E5A-2D5293F8131F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857240" y="214308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cvgyXcSlxU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1857240" y="321480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-Kn8KmDM8y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1370160" y="4357800"/>
            <a:ext cx="51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tIakRScvIi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1551240" y="5500800"/>
            <a:ext cx="52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evx8fJKsXs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1785960" y="585792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hmuaFE5zf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1643040" y="621504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http://www.youtube.com/watch?v=WUNhTMoc5HQ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ó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6520-D474-4232-A689-43356A340EDF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7223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o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5E03-811A-4C3E-9366-7F632D5103D5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1571760"/>
            <a:ext cx="7159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punto de reorden tiempo de demanda y entrega incierta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07D4-D77C-4103-869E-6C09557C51F6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75373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punto de reorden tiempo de demanda y entrega incierta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40B4-10DD-4E4C-A301-A9AEB9BF5855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7358040" cy="46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punto de reorden tiempo de demanda y entrega incierta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F566-35E9-4CC2-871B-CAE9A0687176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7537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punto de reorden tiempo de demanda y entrega incierta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0B16-4B18-4F40-9684-192910A6BFEE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755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revisión periódica con demanda inciert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79CB-4F0F-4E3A-96FC-6F83D83914D3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5705280" cy="1009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0" descr=""/>
          <p:cNvPicPr/>
          <p:nvPr/>
        </p:nvPicPr>
        <p:blipFill>
          <a:blip r:embed="rId2"/>
          <a:stretch/>
        </p:blipFill>
        <p:spPr>
          <a:xfrm>
            <a:off x="1357200" y="2428920"/>
            <a:ext cx="6715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DD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7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D706-C1DD-41DA-BBFC-A33B9CCD7C9A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Picture 62" descr=""/>
          <p:cNvPicPr/>
          <p:nvPr/>
        </p:nvPicPr>
        <p:blipFill>
          <a:blip r:embed="rId1"/>
          <a:stretch/>
        </p:blipFill>
        <p:spPr>
          <a:xfrm>
            <a:off x="1143000" y="1442880"/>
            <a:ext cx="68580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revisión periódica con demanda inciert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10EE-5272-4659-9223-DF75BCE2E569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761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revisión periódica con demanda inciert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5705-D123-4085-B5F4-3C0647EC7445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380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Modelo de pedido ún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357200" y="1357200"/>
            <a:ext cx="6994800" cy="457200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3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7553-5CED-44FC-8471-C30E851B3812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2314"/>
                </a:solidFill>
                <a:latin typeface="Gill Sans MT"/>
              </a:rPr>
              <a:t>Modelo de revisión periódica con demanda inciert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8429760" y="6305400"/>
            <a:ext cx="64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FAE-8EBB-44F0-A64C-EB49D430F2FB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214280" y="1571760"/>
            <a:ext cx="740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Distribución de probabilidad norm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4DD8-8A74-48CB-8B7A-7BC71F78FF19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00120" y="1357200"/>
          <a:ext cx="3668760" cy="1096920"/>
        </p:xfrm>
        <a:graphic>
          <a:graphicData uri="http://schemas.openxmlformats.org/drawingml/2006/table">
            <a:tbl>
              <a:tblPr/>
              <a:tblGrid>
                <a:gridCol w="36687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 = 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El área es 0.975 ó 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 = 1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El área es 0.949 ó 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1571760" y="2567160"/>
            <a:ext cx="620712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Distribución de probabilidad norm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75F7-303F-46E3-B373-15F63349BC34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57120" y="1643040"/>
          <a:ext cx="2049480" cy="146376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5% </a:t>
                      </a:r>
                      <a:r>
                        <a:rPr b="0" lang="es-ES_tradnl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Z= 0.6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0% </a:t>
                      </a:r>
                      <a:r>
                        <a:rPr b="0" lang="es-ES_tradnl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Z= 0.8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0% </a:t>
                      </a:r>
                      <a:r>
                        <a:rPr b="0" lang="es-ES_tradnl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Z= 1.2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5% </a:t>
                      </a:r>
                      <a:r>
                        <a:rPr b="0" lang="es-ES_tradnl" sz="2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Z= 1.6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2857680" y="1071720"/>
            <a:ext cx="5800680" cy="52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Distribución de probabilidad norm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49CF-1322-49AB-8EF7-DADEF04E9A35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1690560" y="1000080"/>
            <a:ext cx="66675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punto de reorden con demanda inciert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1" name="Picture 13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7197840" cy="442908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4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E13C-1B1F-467B-8784-73D22A4BDDAE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cantidad de pedido único (Q*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C1F-D218-4532-9929-FFF4144D9F3B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Modelo de cantidad de pedido único (Q*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Slide Number Placeholder 2"/>
          <p:cNvSpPr/>
          <p:nvPr/>
        </p:nvSpPr>
        <p:spPr>
          <a:xfrm>
            <a:off x="8143920" y="63054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4C17-D15D-4AC6-9EA1-A6A0949DDC46}" type="slidenum">
              <a:rPr b="0" lang="es-MX" sz="24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1571760" y="1571760"/>
            <a:ext cx="7146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3:34:59Z</dcterms:created>
  <dc:creator>PRIMITIVO</dc:creator>
  <dc:description/>
  <dc:language>en-US</dc:language>
  <cp:lastModifiedBy>sena</cp:lastModifiedBy>
  <dcterms:modified xsi:type="dcterms:W3CDTF">2010-11-05T19:25:34Z</dcterms:modified>
  <cp:revision>25</cp:revision>
  <dc:subject/>
  <dc:title>Modelos de inventarios</dc:title>
</cp:coreProperties>
</file>